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0E0C-9518-4ECD-B538-FD45AD38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B00B-7678-4634-B0C4-100ADFC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41EA-7859-4378-A6FC-B0D7837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03E5-17AD-493F-9E86-B47854F6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49EE-A3EA-452A-9C28-8BB298E7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B80-76D3-4A76-B406-059F9C7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2017-DCC0-48E6-BBEC-5A525D7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8F7C-B5BF-47F5-8B1F-39BE424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BC4A-9B85-4A8D-B164-277BF183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9C31-FADD-4B89-9C3E-42528FA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52D-FB6D-48E5-B4AF-4D6141FA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35BA-8BAC-41BB-968D-1C8B9A5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555C-46DC-48B6-9B4B-9E72BD0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60A7-26AA-402A-A31A-66929E4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52E-B46E-47CC-A6E1-A820901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AC0-272E-4E13-8BC2-00123520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501A-1E12-47D9-8554-FD14A511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FEA0-97A1-46B6-94CD-7D363CAD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DCEB-F45D-476A-A840-E97F93E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451D-9BAE-4CCC-8A5A-116E8CCA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613D-840A-4F13-88EC-B051B7E0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33D9-30FE-462B-9C51-F8349E1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F10C-A5AC-4EB8-AB29-74A43981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05F6-034D-4AED-8906-875C96F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17ED-56CA-42D9-B11E-F0560A1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3B3F-02B5-43AC-8461-CF048D2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B6E4-CC82-4709-9996-365F33FD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F92B-B837-4E80-8D7C-EB9979B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3CCF-E01F-4DF2-BC47-C093EC6E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A82F-C63C-4CF0-B238-955690C9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6161-0F4D-47DC-A361-B938967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0875-1BA7-4BCB-95C6-A49705B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F854-6712-42E5-B92C-7012691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D3C1-E018-4744-A4CA-F04F565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E8B3-465C-41A6-94B7-2E80241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481A-4B89-4943-BF8C-453E29E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07C-76D9-47A1-AB4C-F5D8BBC3F5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3379-2EBC-477F-A574-65D8593919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F3B-08AC-453C-8848-B60FC09EBF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endParaRPr b="0" lang="en-US" sz="65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0" name="1 Imagen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385596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2 Rectángulo"/>
          <p:cNvSpPr/>
          <p:nvPr/>
        </p:nvSpPr>
        <p:spPr>
          <a:xfrm>
            <a:off x="323280" y="2895480"/>
            <a:ext cx="37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8600"/>
                </a:solidFill>
                <a:latin typeface="Arial"/>
              </a:rPr>
              <a:t>PLAN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2" name="Picture 5" descr="Erysimum_repandum_stem"/>
          <p:cNvPicPr/>
          <p:nvPr/>
        </p:nvPicPr>
        <p:blipFill>
          <a:blip r:embed="rId1"/>
          <a:stretch/>
        </p:blipFill>
        <p:spPr>
          <a:xfrm>
            <a:off x="3235320" y="2770200"/>
            <a:ext cx="2673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EAF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4" name="Picture 5" descr="leaf"/>
          <p:cNvPicPr/>
          <p:nvPr/>
        </p:nvPicPr>
        <p:blipFill>
          <a:blip r:embed="rId1"/>
          <a:stretch/>
        </p:blipFill>
        <p:spPr>
          <a:xfrm>
            <a:off x="2540160" y="2770200"/>
            <a:ext cx="40636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EAV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6" name="Picture 6" descr="leaves"/>
          <p:cNvPicPr/>
          <p:nvPr/>
        </p:nvPicPr>
        <p:blipFill>
          <a:blip r:embed="rId1"/>
          <a:stretch/>
        </p:blipFill>
        <p:spPr>
          <a:xfrm>
            <a:off x="2855880" y="312408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FLOWER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8" name="Picture 5" descr="Nenúfares"/>
          <p:cNvPicPr/>
          <p:nvPr/>
        </p:nvPicPr>
        <p:blipFill>
          <a:blip r:embed="rId1"/>
          <a:stretch/>
        </p:blipFill>
        <p:spPr>
          <a:xfrm>
            <a:off x="2212920" y="2770200"/>
            <a:ext cx="47181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8600"/>
                </a:solidFill>
                <a:latin typeface="Arial"/>
              </a:rPr>
              <a:t>GARDE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0" name="3 Marcador de contenido" descr="GARDEN.jpg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PARTS OF A PLAN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2" name="Picture 7" descr="plant"/>
          <p:cNvPicPr/>
          <p:nvPr/>
        </p:nvPicPr>
        <p:blipFill>
          <a:blip r:embed="rId1"/>
          <a:stretch/>
        </p:blipFill>
        <p:spPr>
          <a:xfrm>
            <a:off x="3429000" y="2057400"/>
            <a:ext cx="25225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4" name="Picture 5" descr="ceiba"/>
          <p:cNvPicPr/>
          <p:nvPr/>
        </p:nvPicPr>
        <p:blipFill>
          <a:blip r:embed="rId1"/>
          <a:stretch/>
        </p:blipFill>
        <p:spPr>
          <a:xfrm>
            <a:off x="1387440" y="1828800"/>
            <a:ext cx="6613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EVERGREEN 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6" name="Picture 5" descr="evergreen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DECIDUOUS TRE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68" name="Picture 5" descr="winter deciduous trees 002"/>
          <p:cNvPicPr/>
          <p:nvPr/>
        </p:nvPicPr>
        <p:blipFill>
          <a:blip r:embed="rId1"/>
          <a:stretch/>
        </p:blipFill>
        <p:spPr>
          <a:xfrm>
            <a:off x="3244680" y="2362320"/>
            <a:ext cx="2961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28559-jerte-cerezo-en-flor"/>
          <p:cNvPicPr/>
          <p:nvPr/>
        </p:nvPicPr>
        <p:blipFill>
          <a:blip r:embed="rId1"/>
          <a:stretch/>
        </p:blipFill>
        <p:spPr>
          <a:xfrm>
            <a:off x="457200" y="1434960"/>
            <a:ext cx="8128080" cy="54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 WITH FLOWER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O GROW, PLANTS NEED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3" name="Picture 9" descr="lavatube-sunlight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plash-of-single-drop-in-still-water-2-AJHD"/>
          <p:cNvPicPr/>
          <p:nvPr/>
        </p:nvPicPr>
        <p:blipFill>
          <a:blip r:embed="rId2"/>
          <a:stretch/>
        </p:blipFill>
        <p:spPr>
          <a:xfrm>
            <a:off x="5780160" y="1600200"/>
            <a:ext cx="177480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potting_soil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What comes after </a:t>
            </a: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the flowers?</a:t>
            </a:r>
            <a:endParaRPr b="0" lang="en-US" sz="6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icotas"/>
          <p:cNvPicPr/>
          <p:nvPr/>
        </p:nvPicPr>
        <p:blipFill>
          <a:blip r:embed="rId1"/>
          <a:stretch/>
        </p:blipFill>
        <p:spPr>
          <a:xfrm>
            <a:off x="1600200" y="1676520"/>
            <a:ext cx="6000840" cy="4505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REE WITH FRUIT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What’s inside the </a:t>
            </a:r>
            <a:br>
              <a:rPr sz="6600"/>
            </a:br>
            <a:r>
              <a:rPr b="0" lang="es-ES" sz="6600" spc="-1" strike="noStrike">
                <a:solidFill>
                  <a:srgbClr val="ff8600"/>
                </a:solidFill>
                <a:latin typeface="Arial"/>
              </a:rPr>
              <a:t>fruits?</a:t>
            </a:r>
            <a:endParaRPr b="0" lang="en-US" sz="6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ermcerezas"/>
          <p:cNvPicPr/>
          <p:nvPr/>
        </p:nvPicPr>
        <p:blipFill>
          <a:blip r:embed="rId1"/>
          <a:stretch/>
        </p:blipFill>
        <p:spPr>
          <a:xfrm>
            <a:off x="1752480" y="205740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EED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GRA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78" name="Picture 12" descr="grass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370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untitled"/>
          <p:cNvPicPr/>
          <p:nvPr/>
        </p:nvPicPr>
        <p:blipFill>
          <a:blip r:embed="rId2"/>
          <a:stretch/>
        </p:blipFill>
        <p:spPr>
          <a:xfrm>
            <a:off x="5029200" y="2971800"/>
            <a:ext cx="35672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BUSH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1" name="Picture 6" descr="yewshrub"/>
          <p:cNvPicPr/>
          <p:nvPr/>
        </p:nvPicPr>
        <p:blipFill>
          <a:blip r:embed="rId1"/>
          <a:stretch/>
        </p:blipFill>
        <p:spPr>
          <a:xfrm>
            <a:off x="2057400" y="2590920"/>
            <a:ext cx="54370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ALL                   SMALL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3" name="Picture 7" descr="espinete"/>
          <p:cNvPicPr/>
          <p:nvPr/>
        </p:nvPicPr>
        <p:blipFill>
          <a:blip r:embed="rId1"/>
          <a:stretch/>
        </p:blipFill>
        <p:spPr>
          <a:xfrm>
            <a:off x="1060560" y="2743200"/>
            <a:ext cx="3273480" cy="359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spinete"/>
          <p:cNvPicPr/>
          <p:nvPr/>
        </p:nvPicPr>
        <p:blipFill>
          <a:blip r:embed="rId2"/>
          <a:stretch/>
        </p:blipFill>
        <p:spPr>
          <a:xfrm>
            <a:off x="4827600" y="2743200"/>
            <a:ext cx="32749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HICK                    THI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6" name="Picture 7" descr="espinete"/>
          <p:cNvPicPr/>
          <p:nvPr/>
        </p:nvPicPr>
        <p:blipFill>
          <a:blip r:embed="rId1"/>
          <a:stretch/>
        </p:blipFill>
        <p:spPr>
          <a:xfrm>
            <a:off x="0" y="3200400"/>
            <a:ext cx="5486400" cy="251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spinete"/>
          <p:cNvPicPr/>
          <p:nvPr/>
        </p:nvPicPr>
        <p:blipFill>
          <a:blip r:embed="rId2"/>
          <a:stretch/>
        </p:blipFill>
        <p:spPr>
          <a:xfrm>
            <a:off x="6629400" y="2057400"/>
            <a:ext cx="6094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BIG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89" name="Picture 6" descr="espinete"/>
          <p:cNvPicPr/>
          <p:nvPr/>
        </p:nvPicPr>
        <p:blipFill>
          <a:blip r:embed="rId1"/>
          <a:stretch/>
        </p:blipFill>
        <p:spPr>
          <a:xfrm>
            <a:off x="2806560" y="2057400"/>
            <a:ext cx="402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14400" y="21016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15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4729320" y="22622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838d9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729320" y="4800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838d9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38" name="Picture 10" descr="splash-of-single-drop-in-still-water-2-AJHD"/>
          <p:cNvPicPr/>
          <p:nvPr/>
        </p:nvPicPr>
        <p:blipFill>
          <a:blip r:embed="rId1"/>
          <a:stretch/>
        </p:blipFill>
        <p:spPr>
          <a:xfrm>
            <a:off x="3137040" y="2770200"/>
            <a:ext cx="28699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RO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5" name="Picture 5" descr="anonymous-pink-rose-9945474"/>
          <p:cNvPicPr/>
          <p:nvPr/>
        </p:nvPicPr>
        <p:blipFill>
          <a:blip r:embed="rId1"/>
          <a:stretch/>
        </p:blipFill>
        <p:spPr>
          <a:xfrm>
            <a:off x="2743200" y="250524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TULIP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7" name="Picture 5" descr="TULIP"/>
          <p:cNvPicPr/>
          <p:nvPr/>
        </p:nvPicPr>
        <p:blipFill>
          <a:blip r:embed="rId1"/>
          <a:stretch/>
        </p:blipFill>
        <p:spPr>
          <a:xfrm>
            <a:off x="3440160" y="2209680"/>
            <a:ext cx="2622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VIOLE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99" name="Picture 5" descr="la-violeta"/>
          <p:cNvPicPr/>
          <p:nvPr/>
        </p:nvPicPr>
        <p:blipFill>
          <a:blip r:embed="rId1"/>
          <a:stretch/>
        </p:blipFill>
        <p:spPr>
          <a:xfrm>
            <a:off x="2895480" y="2514600"/>
            <a:ext cx="41292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lavatube-sunlight"/>
          <p:cNvPicPr/>
          <p:nvPr/>
        </p:nvPicPr>
        <p:blipFill>
          <a:blip r:embed="rId1"/>
          <a:stretch/>
        </p:blipFill>
        <p:spPr>
          <a:xfrm>
            <a:off x="609480" y="167652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UNLIGH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FLOWERP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42" name="Picture 6" descr="flowerpot_empty"/>
          <p:cNvPicPr/>
          <p:nvPr/>
        </p:nvPicPr>
        <p:blipFill>
          <a:blip r:embed="rId1"/>
          <a:stretch/>
        </p:blipFill>
        <p:spPr>
          <a:xfrm>
            <a:off x="2678040" y="2770200"/>
            <a:ext cx="37879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otting_soil"/>
          <p:cNvPicPr/>
          <p:nvPr/>
        </p:nvPicPr>
        <p:blipFill>
          <a:blip r:embed="rId1"/>
          <a:stretch/>
        </p:blipFill>
        <p:spPr>
          <a:xfrm>
            <a:off x="2286000" y="19350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OIL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germcerezas"/>
          <p:cNvPicPr/>
          <p:nvPr/>
        </p:nvPicPr>
        <p:blipFill>
          <a:blip r:embed="rId1"/>
          <a:stretch/>
        </p:blipFill>
        <p:spPr>
          <a:xfrm>
            <a:off x="1752480" y="205740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SEED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LIFE CYCLE OF A PLAN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48" name="3 Marcador de contenido" descr="life_cycle_of_plant.gif"/>
          <p:cNvPicPr/>
          <p:nvPr/>
        </p:nvPicPr>
        <p:blipFill>
          <a:blip r:embed="rId1"/>
          <a:stretch/>
        </p:blipFill>
        <p:spPr>
          <a:xfrm>
            <a:off x="2514600" y="2198520"/>
            <a:ext cx="3894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8600"/>
                </a:solidFill>
                <a:latin typeface="Arial"/>
              </a:rPr>
              <a:t>ROOT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150" name="Picture 7" descr="root-info2"/>
          <p:cNvPicPr/>
          <p:nvPr/>
        </p:nvPicPr>
        <p:blipFill>
          <a:blip r:embed="rId1"/>
          <a:stretch/>
        </p:blipFill>
        <p:spPr>
          <a:xfrm>
            <a:off x="3514680" y="2770200"/>
            <a:ext cx="21146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ISTINA</dc:creator>
  <dc:description/>
  <dc:language>en-US</dc:language>
  <cp:lastModifiedBy>cristina</cp:lastModifiedBy>
  <dcterms:modified xsi:type="dcterms:W3CDTF">2012-05-17T23:09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